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gif" ContentType="image/gif"/>
  <Override PartName="/ppt/media/image13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F9F9-B064-4761-B41B-2D001C70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40CF-F8F8-4012-8098-318841DF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4E5-1D6C-4C83-BF9A-9FC25A9F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B3E-89C5-4E4D-8C43-3CD8F7C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551-A3FA-455B-B32B-DB26E0B3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217-4BEC-4640-8D2F-F711A9D1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AA4-6B2A-4B01-9E36-99154EE1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F3C-FB32-4DA3-8FE2-5D8AA5AA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90B-EEAD-4F06-BC14-0A1B62F4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354-32AA-4639-B494-76DEB34F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134-D61A-4844-92DD-8B955EB7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3F0-F7AE-4508-BE3C-0D32345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610-6ACB-48C2-8840-6757CBD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190-66E1-42A6-BE3D-3B089556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EC88-6A6F-4372-BAA3-27FE881DD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hyperlink" Target="mailto:COACHMUCHNICK@AOL.COM" TargetMode="External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aduatedrivers.ca/images/front_header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 what you are supposed to do.  Persevere and always do your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762120"/>
            <a:ext cx="81532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onsibilit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LLEN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PHYSICAL EDUCATION ELECTIV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AM WOR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 ELEMENT CLIMBING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gn-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W with your Physical Education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8120" y="1981080"/>
          <a:ext cx="229392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981080"/>
                    <a:ext cx="22939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371600" y="4191120"/>
            <a:ext cx="1077840" cy="121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886200" y="4191120"/>
            <a:ext cx="1433520" cy="113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477120" y="4114800"/>
            <a:ext cx="1371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 YOU MUST BE 15 YEARS OF AGE TO GET CERTIFIED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 FOR THE 2009/2010 SCHOOL YEAR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* PHYSICAL EDUCATION ELECTIVE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FEGUAR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CLU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PR – FIRST AID – A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47920" y="3276720"/>
          <a:ext cx="1218960" cy="97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276720"/>
                    <a:ext cx="121896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657600" y="3429000"/>
          <a:ext cx="1752480" cy="75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3429000"/>
                    <a:ext cx="17524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 txBox="1"/>
          <p:nvPr/>
        </p:nvSpPr>
        <p:spPr>
          <a:xfrm>
            <a:off x="6477120" y="3352680"/>
            <a:ext cx="8636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203720"/>
            <a:ext cx="7848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YOU MUST TAKE THE WATER PRE-TE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300 yd. swim (100 of Free with rhythmic breathing &amp; Breaststrok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Sprint 20yds. retrieve brick from bottom and return 20yds. (1:40 seconds max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Get to the High School Pool ASAP (you can use goggles for the 300 swim)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IELDSTO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TAKE THE ACTIVITY/SPORTS BUS TO THE HIGH SCHOOL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*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ETTING HO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Get picked-up or NRHS can take the 9TH per. Bus home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TES FOR THE WATER TEST – Immediately after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0th (Tue) or 11th (Wed) or 12th (Thur) – after 3:00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e Water Testing will take less than 30 minu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act Coach Muchnick for mo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ACHMUCHNICK@AO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mericana BT"/>
              </a:rPr>
              <a:t>The Six Pillars of Charac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5105520" cy="403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Trustworth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Resp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a BT"/>
              </a:rPr>
              <a:t>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Fair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C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Citize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181480" y="2438280"/>
          <a:ext cx="3308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438280"/>
                    <a:ext cx="3308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ty or state of being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le to be called on to answer (for yourself, something or some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answer for one's conduct and oblig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agree or disagree with the following statements? Explain your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responsible is an important aspect of good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rades are not as important as the sport that I am involved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is responsible for the development of his or her own personal charac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people don't blame others or make excuses for their actions and cho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 to 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 goal to use a planner for one month.  Stick to your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your biggest time-wasters…limi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a “pleaser;” someone who says yes to everything?  If so, have the courage to say no today when it’s the right thing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n important test in one week, don’t procrastinate and wait until the day before to study.  Suck it up and study a little each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something you’ve procrastinated for a long time but that’s very important.  Block out time this week to get it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impact does peer pressure have on you?  Identify the person or people who have the most influence upon you.  Ask yourself, “Am I doing what I want to do, what they want me to do, or what is r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765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705720" y="5122800"/>
            <a:ext cx="2438280" cy="180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nual Extended"/>
              </a:rPr>
              <a:t>Are You a Responsible Person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/False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o what needs to be done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am reliable and dependabl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am accountable for my actions; I don't make excuses or blame other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fulfill my moral obligation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use good judgment and think through the consequences of my action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exercise self-control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 am/am not a responsible person because: ____________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ing responsible puts you in charge of your life.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49:28Z</dcterms:created>
  <dc:creator>North Rockland Schools</dc:creator>
  <dc:description/>
  <dc:language>en-US</dc:language>
  <cp:lastModifiedBy>North Rockland High School</cp:lastModifiedBy>
  <cp:lastPrinted>2009-01-20T11:51:34Z</cp:lastPrinted>
  <dcterms:modified xsi:type="dcterms:W3CDTF">2009-01-20T11:53:26Z</dcterms:modified>
  <cp:revision>3</cp:revision>
  <dc:subject/>
  <dc:title>Responsibility</dc:title>
</cp:coreProperties>
</file>